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B72D-2B17-429D-B717-90FCF1A6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22A-96D3-449E-823F-569068BD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A04-60DF-4D8C-819E-FCC5DDE6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421-4C60-4E23-992F-377FA539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715-D8D4-4287-8DB0-171ACAB0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F56-E187-4E1C-B32C-E20CB979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0BF-9819-4FEC-BC5F-C1EDBC46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EF5C-1EDB-4AF6-B66A-0CF30623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E2C-A9B3-4321-89F0-91BEB86D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687-6F5A-49BF-89A5-E7970EB4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3C0-93AC-48EE-95A7-3521917D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438-3B25-4496-A4FE-40EFFEC7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5753-7198-4F19-81D9-216A41B5E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Int 1/Int 2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kills and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ess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dnesday 9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Dec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actice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773360"/>
            <a:ext cx="84582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 this stage we are practicing for the following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improve consistency of the sh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link each part of the skill together more flu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actice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557360"/>
            <a:ext cx="8458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actice sh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peated.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 a closed environment.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itially self paced.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radual increase in pressure.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actice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844640"/>
            <a:ext cx="8458200" cy="23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act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olated feed with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tinuous r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Automatic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773360"/>
            <a:ext cx="84582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 this stage we are practicing for the following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maintain consistency under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perform the shot automa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have a tactical awareness of when to use shot and how to disguise sh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Automatic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557360"/>
            <a:ext cx="8458200" cy="38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actice sh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ore game l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creased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ore op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aced by partner not 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Automatic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557360"/>
            <a:ext cx="8458200" cy="30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act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mbination r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essure dr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ditioned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84464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By the end of this lesson you should all kn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What the three stages of learning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Be able to describe the characteristics evident at each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What methods of practice are appropriate at each stage and 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413000"/>
            <a:ext cx="84582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Homework – preparation for part 2 of your N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udy everything that we have looked at on model performer and stages of learning.  Prepare 2 essay responses on all you know about bo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art 2 of NAB – Wednesday 16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December period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84464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By the end of this lesson you should all kn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What the three stages of learning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Be able to describe the characteristics evident at each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What methods of practice are appropriate at each stage and 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tages of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341360"/>
            <a:ext cx="8458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itial Ta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rite down the 3 stages of learn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gn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ssoci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utonom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tages of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341360"/>
            <a:ext cx="84582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ask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ad over the ‘Stages of Learning’ theory sheet.  Write down 3 characteristics you would expect to see from a player at each st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g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ssoci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utono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tages of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1337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hy is it important that we know about stages of learning in order to improve our performan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tages of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341360"/>
            <a:ext cx="84582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ask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rite down the what practices you feel are appropriate at each of the 3 stag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gn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ssoci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utonom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eparation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557360"/>
            <a:ext cx="84582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 this stage we are practicing for the following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learn the correct technique for each part of the skill (P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know how the shot should f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groove the correct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eparation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55736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actice sh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low to allow player to think about the technique he/she is trying to per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a closed environment.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lf paced.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ery limited pressure.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eparation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557360"/>
            <a:ext cx="845820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act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1. Shadow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2. Isolated feed with no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 player in the cognitive stage of learning should always start their programme of work with these prac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2-08T15:56:46Z</dcterms:modified>
  <cp:revision>30</cp:revision>
  <dc:subject/>
  <dc:title>Intermediate PE</dc:title>
</cp:coreProperties>
</file>